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F23-10C3-4F68-85D5-5F438C0C0E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4E9-7B98-488C-9882-4317A1C7CD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6D2-B6C4-4AA8-BF4A-16226A4D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5B0-D07F-45A4-A176-28D7194F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735-52C7-4A60-A643-CB24BAA6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6BC-8B6E-463A-8C94-6541207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17E6-86DB-4BE8-9B86-122B9029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49E5-0F8B-4C30-9EA2-0CB9B57E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9483-F046-49F1-A4A7-F5CDB19B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343A-F5BC-445D-BC32-C8B53BD3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4F9A-50D1-4D95-B33A-C141154F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FA6B-9350-4613-9F9B-A62E1808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0A45-AAB1-4F77-83F3-E367D130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A0F-C17C-4D35-992A-DD267169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0A7C-462B-48DB-B571-8570E8E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0545-EFD7-4496-8F9E-269C76E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5DED-2716-437A-8951-A23CB178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FBB3-1CFC-44DB-8127-B954E6FF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8FA0-705D-48EA-AD80-22AD8465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DD4DF-59AC-4785-8621-7CFB2AD6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D732A-8537-42F0-86B0-716A4A1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468A3-560C-4B8F-A807-8CD1EBDA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51312-D91D-4E18-BE9A-6A4CFDDD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5CE64-C3CB-4EAA-9080-919AFD54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FD7-6512-4D9B-8C56-018CD69C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7896B-A9A6-4E57-8D77-40FE566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CCB43-7D18-453E-9C6B-3A0AD03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F04EF-D410-4E99-B1C9-8A36950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B8C27-D0B4-42FC-B261-1FA9FFC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8FCA8-8C0F-453F-A785-80EA3711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31B4E-C44C-4CAD-AB9C-347C8A62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65C74-6718-4267-9C61-EFF5964B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EBEB-082A-4A44-879C-6200F712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1630F-147C-411C-A285-34CBA948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8FE26-921C-4D55-A28B-6EF43957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AA8-2FE0-4BDE-A6CA-2A7C6237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EC1A-D140-4366-86DD-FBD9EB72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3C9F-A32F-4B16-A9E2-3D7E68A2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0FAA-E9A7-4570-BC67-9DEB5216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BCD7-3501-4123-8DFB-84A44F9D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73A6-3636-4403-84D4-11AA5A9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116C-7861-442A-A969-4910AA47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E8AB-1004-488D-AB1C-F8315B1C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A4C9-7AE1-4447-AAB4-417D0197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AF34-1DE8-4447-8D02-1D0E8811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9ED47-27F4-4FDE-8578-0112A3A9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615-2951-4447-9C45-7803A3E7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62876-EB05-49EA-9AEC-4DB345D4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C9982-3263-4DED-9A04-B263E94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956C6-27DF-4695-A570-241E2137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19194-89AD-48D8-89BF-7AB6A35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BBFE6-1C84-4098-9C12-1F5AEBB5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5CF88-E1DF-4AA9-9A1D-926C9A4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F9803-2788-47C0-939D-00D6AD4B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1152A-5E1D-4776-A57C-97160DC6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47B4F-FCF0-4C6E-B9C4-22E1FFFD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D01FF-26CD-4CE3-AA6C-C98BA45B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A94-2C91-479B-9FF7-2C086A61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57A50-81A8-4F65-95F9-4BBBF60B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3BE17-17FF-4F71-B895-3994B30F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F684D-425F-4A56-B20A-5AD425A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614BF-2DE8-4B0A-AED9-86533429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B6C6D-6F9E-4407-9608-E194D2B2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0CF18-45AC-47D3-A91B-F88273C1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D4E65-9E42-40AD-B845-3F017292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5CA7F-BD2E-470B-AD99-7CBDE80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2902E-CA4D-4694-BCD1-76C67A2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9D96A-0F32-4F83-BF48-17A416B7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157-7F59-49BA-A4D4-6BC49E85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95D5C-F93C-4666-86C4-37052092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8266E-63BE-40EA-87FF-8699F8F9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05FAC-B352-40B4-A33A-4E7D3850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5B9B1-88B6-4966-BB35-2393722A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7AB40-5E71-45FD-9871-2943A51E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11E8E-AEC4-429C-82EB-6438C257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C8A66-4597-4C9F-8561-326E5992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A756C-D3EF-40A1-A267-AD2A4CA5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DAED5-5A3D-4125-8C23-86F8941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8CB65-B054-4661-BD24-059CB11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AB4-9196-4278-A88D-10B4A81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676D2-6738-40CA-8336-EE29A27C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9A1CD-CC3F-4B76-8903-A46D699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B8020-5CA1-4AB0-8D3B-70B59F80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D7189-166F-4E62-8F43-A97766D1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87C96-6638-4D8E-A781-8A68A5D5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367-F9D6-4CC3-BDFC-74F82627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F85-3A42-42C1-81E6-259735A67864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E300-8822-4FBE-B3BA-A802B9EDE21C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6350-3D1D-4A64-B158-B7D01ACC4FB7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4F30-3B23-497D-9D5C-7E8A4B4AE1A2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A1D8-79C1-453F-B0BE-17D7AEF8CFC1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A9B0-A119-48C2-B0CC-DFB57E95E118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2B87-4820-47C4-B340-94A1D62469E0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75f6d"/>
                </a:solidFill>
                <a:latin typeface="Century Schoolbook"/>
              </a:rPr>
              <a:t>NEWS VALU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5f6d"/>
                </a:solidFill>
                <a:latin typeface="Century Schoolbook"/>
              </a:rPr>
              <a:t>A Level Med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562480" cy="1781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3"/>
          <a:stretch/>
        </p:blipFill>
        <p:spPr>
          <a:xfrm>
            <a:off x="6084720" y="494172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ALITY IN THE NEW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 realistic is the new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an you think of any way that the news may be construct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hat is the role of the newsread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5975280" y="4889520"/>
            <a:ext cx="3168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ALITY IN NEW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programmes which feature high in the ratings, appear to be the ‘most real’ and least mediated programmes on TV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 Britain and America the news on TV is widely seen as more reliable than any other source of news (esp BBC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 expect an impartial and balanced summary of significant ev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T, presenting, writing and documenting news is a selective and partial proce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t uses specific media language and narrative reflecting the perspective and bias of the creat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is can influence the audience’s perception of the events portray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ALITY IN NEW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John Fisk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, of course, can never give a full, accurate objective picture of reality nor should it attempt to for such an enterprise can only serve to...decrease people’s opportunity to argue with it, to negotiate with it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4932360" y="4653000"/>
            <a:ext cx="19987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HE NEWSR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esented as a ‘neutral’ observ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ppears to speak “the objective discourse of the truth.” (Fisk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itting behind a desk reduces their body languag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Yet, we ARE directed by the newsread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ur gaze follows their gaz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verything seen seems to support what the newsreader say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lthough the content may be far from reassuring, their manner is always friendly, reliable and reassur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‘tail piece’ offers a happy en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411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7236000" y="3141720"/>
            <a:ext cx="19080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PORTING OF EV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ew events are directly observed by reporters – most stories are repackaged from secondary sour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agencies, press conferences, spokespeople may have bias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often report what prominent people say about events, rather than the events themselv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xperts’ and special correspondents are used to comment on events (purely stylistic featur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ibrary footage serves to ‘authenticate’ stor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ive TV – gives a sense of ‘nowness’ but tends to disguise the constructedness of new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TRUCTURE AND NARRA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programmes tell stor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re are principal and minor characters, connected sequences, heroes and villains and a beginning, middle and e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iske argues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basic structure of a TV news story follows Todorov’s outline of narrative structure.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6407280" y="4618080"/>
            <a:ext cx="2736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NEWS VALU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t is often argued that news has an agenda setting fun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y what is omitted as well as what’s included, newsmakers may influence what we think is importa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is selec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ften focuses on issues of cultural concern – Madeline McCann...poor parenting...paedophilia...medical malpractice...mistrust of foreig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6588000" y="4809960"/>
            <a:ext cx="2556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IN THE NEWS TODAY..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ework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atch an episode of the news this week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ite an analysis of the programme based on Dutton’s news valu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8:58:22Z</dcterms:created>
  <dc:creator>Grainne</dc:creator>
  <dc:description/>
  <dc:language>en-US</dc:language>
  <cp:lastModifiedBy>Grainne</cp:lastModifiedBy>
  <dcterms:modified xsi:type="dcterms:W3CDTF">2010-09-16T10:57:11Z</dcterms:modified>
  <cp:revision>33</cp:revision>
  <dc:subject/>
  <dc:title>News Values</dc:title>
</cp:coreProperties>
</file>